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4240" y="5346720"/>
            <a:ext cx="12115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7084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11996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51992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93140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0" y="2374920"/>
            <a:ext cx="4788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55080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8708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1822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50228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34680" y="1384200"/>
            <a:ext cx="5359320" cy="3340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34680" y="5155920"/>
            <a:ext cx="5359320" cy="332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7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1384200" y="4876920"/>
            <a:ext cx="384804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6000"/>
          </a:bodyPr>
          <a:p>
            <a:pPr marL="72072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030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48536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86768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567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927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1283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1079640" y="2526840"/>
            <a:ext cx="523224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048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020960" indent="-3679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427400" indent="-3682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84644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50960" indent="-4590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276200" indent="-4600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784520" indent="-460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308320" indent="-4590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1079640" y="2526840"/>
            <a:ext cx="523224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048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020960" indent="-3679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427400" indent="-3682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84644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772400" y="2526840"/>
            <a:ext cx="41529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33160" indent="-3258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905760" indent="-326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266840" indent="-3268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638720" indent="-3258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3296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18512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62180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07360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1079280" y="875880"/>
            <a:ext cx="10845720" cy="800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5248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37808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88604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41128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79280" y="2971440"/>
            <a:ext cx="1084572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079280" y="2920680"/>
            <a:ext cx="10845720" cy="24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1079280" y="5359320"/>
            <a:ext cx="10845720" cy="137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1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2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3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4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5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6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95360" y="1663200"/>
            <a:ext cx="5651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495360" y="4990680"/>
            <a:ext cx="5651280" cy="307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Click to edit the outline text format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1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econd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2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Third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3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Four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4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Fif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5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ix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6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even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4240" y="6527520"/>
            <a:ext cx="1211580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33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44240" y="1270080"/>
            <a:ext cx="12115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Mona Lisa Solid ITC TT"/>
                <a:ea typeface="Mona Lisa Solid ITC TT"/>
              </a:rPr>
              <a:t>Henri Matisse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44240" y="5346720"/>
            <a:ext cx="12115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by Jay Ghi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9G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American Typewriter"/>
                <a:ea typeface="American Typewriter"/>
              </a:rPr>
              <a:t>His Biograph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8" name=""/>
          <p:cNvSpPr/>
          <p:nvPr/>
        </p:nvSpPr>
        <p:spPr>
          <a:xfrm>
            <a:off x="1149480" y="4108320"/>
            <a:ext cx="106804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Henri-Émile -Benoit Matisse was born on December 31, 1869 in the Picardy region of northern France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Studied law and worked as a law clerk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At the age of 21, he became seriously ill and when he recovered, he began to paint and discover his love for ar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Quits on law and starts his life-long passion for ar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pic>
        <p:nvPicPr>
          <p:cNvPr id="1399" name="" descr=""/>
          <p:cNvPicPr/>
          <p:nvPr/>
        </p:nvPicPr>
        <p:blipFill>
          <a:blip r:embed="rId6"/>
          <a:stretch/>
        </p:blipFill>
        <p:spPr>
          <a:xfrm>
            <a:off x="380880" y="380880"/>
            <a:ext cx="22352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La Danse</a:t>
            </a:r>
            <a:br>
              <a:rPr sz="7000"/>
            </a:b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(The Dance)</a:t>
            </a:r>
            <a:br>
              <a:rPr sz="7000"/>
            </a:b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2"/>
          <a:stretch/>
        </p:blipFill>
        <p:spPr>
          <a:xfrm>
            <a:off x="1536840" y="2400480"/>
            <a:ext cx="5742000" cy="37717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7569360" y="2400480"/>
            <a:ext cx="4495680" cy="70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This art’s style is primitive art and uses a classic Fauvist colour palette. </a:t>
            </a:r>
            <a:endParaRPr b="0" lang="en-US" sz="3600" spc="-1" strike="noStrike">
              <a:solidFill>
                <a:srgbClr val="5f7bae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- It has intense warm colors against the cool blue- green background and the feeling of liberation from the dancing people</a:t>
            </a:r>
            <a:endParaRPr b="0" lang="en-US" sz="36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03" name=""/>
          <p:cNvSpPr/>
          <p:nvPr/>
        </p:nvSpPr>
        <p:spPr>
          <a:xfrm>
            <a:off x="1523880" y="6819840"/>
            <a:ext cx="57531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recognized as a “key point of Matisse’s career and development of modern painting</a:t>
            </a:r>
            <a:endParaRPr b="0" lang="en-US" sz="36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The </a:t>
            </a:r>
            <a:r>
              <a:rPr b="0" lang="en-US" sz="7000" spc="-1" strike="noStrike">
                <a:solidFill>
                  <a:srgbClr val="15ffec"/>
                </a:solidFill>
                <a:latin typeface="American Typewriter"/>
              </a:rPr>
              <a:t>Open</a:t>
            </a: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 Window</a:t>
            </a:r>
            <a:br>
              <a:rPr sz="7000"/>
            </a:b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1905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914400" y="1955880"/>
            <a:ext cx="4152960" cy="4952880"/>
          </a:xfrm>
          <a:prstGeom prst="rect">
            <a:avLst/>
          </a:prstGeom>
          <a:ln w="0">
            <a:noFill/>
          </a:ln>
        </p:spPr>
      </p:pic>
      <p:sp>
        <p:nvSpPr>
          <p:cNvPr id="1406" name=""/>
          <p:cNvSpPr/>
          <p:nvPr/>
        </p:nvSpPr>
        <p:spPr>
          <a:xfrm>
            <a:off x="5359320" y="2425680"/>
            <a:ext cx="58928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This is an example of a Fauvist style of painting that Matisse became famous for </a:t>
            </a:r>
            <a:endParaRPr b="0" lang="en-US" sz="3600" spc="-1" strike="noStrike">
              <a:solidFill>
                <a:srgbClr val="5f7bae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7bae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The Open Window is a theme that keeps recurring throughout his long career</a:t>
            </a:r>
            <a:endParaRPr b="0" lang="en-US" sz="36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95280" y="139680"/>
            <a:ext cx="1084608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merican Typewriter"/>
              </a:rPr>
              <a:t>The Desert: Harmony in </a:t>
            </a:r>
            <a:r>
              <a:rPr b="0" lang="en-US" sz="6000" spc="-1" strike="noStrike">
                <a:solidFill>
                  <a:srgbClr val="ff0306"/>
                </a:solidFill>
                <a:latin typeface="American Typewriter"/>
              </a:rPr>
              <a:t>Red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merican Typewriter"/>
              </a:rPr>
              <a:t>1908</a:t>
            </a:r>
            <a:br>
              <a:rPr sz="6000"/>
            </a:br>
            <a:br>
              <a:rPr sz="6000"/>
            </a:b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190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1408" name="" descr=""/>
          <p:cNvPicPr/>
          <p:nvPr/>
        </p:nvPicPr>
        <p:blipFill>
          <a:blip r:embed="rId2"/>
          <a:stretch/>
        </p:blipFill>
        <p:spPr>
          <a:xfrm>
            <a:off x="1308240" y="2144880"/>
            <a:ext cx="5549760" cy="461160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7048440" y="2197080"/>
            <a:ext cx="50929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Originally called Harmony in </a:t>
            </a:r>
            <a:r>
              <a:rPr b="0" lang="en-US" sz="4000" spc="-1" strike="noStrike">
                <a:solidFill>
                  <a:srgbClr val="101fff"/>
                </a:solidFill>
                <a:latin typeface="American Typewriter"/>
                <a:ea typeface="American Typewriter"/>
              </a:rPr>
              <a:t>Blue, </a:t>
            </a: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was not satisfied with blue because it did not provide sufficient contrast with green seen through the open window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10" name=""/>
          <p:cNvSpPr/>
          <p:nvPr/>
        </p:nvSpPr>
        <p:spPr>
          <a:xfrm>
            <a:off x="1320840" y="7010280"/>
            <a:ext cx="558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Oil on Canvas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Blue Nude II</a:t>
            </a:r>
            <a:br>
              <a:rPr sz="7000"/>
            </a:b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1952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1079640" y="2449440"/>
            <a:ext cx="3911400" cy="48704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5397480" y="2489040"/>
            <a:ext cx="661680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Blue Nudes are a series of gouaches découpées 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- Finest work in any medium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- After recovering from his illness, he stopped painting in favor of his paper cutouts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14" name=""/>
          <p:cNvSpPr/>
          <p:nvPr/>
        </p:nvSpPr>
        <p:spPr>
          <a:xfrm>
            <a:off x="-685800" y="7518240"/>
            <a:ext cx="842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Gouaches Découpées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Beasts of the </a:t>
            </a:r>
            <a:r>
              <a:rPr b="0" lang="en-US" sz="7000" spc="-1" strike="noStrike">
                <a:solidFill>
                  <a:srgbClr val="508dc8"/>
                </a:solidFill>
                <a:latin typeface="American Typewriter"/>
              </a:rPr>
              <a:t>Sea</a:t>
            </a:r>
            <a:br>
              <a:rPr sz="7000"/>
            </a:b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1950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2"/>
          <a:stretch/>
        </p:blipFill>
        <p:spPr>
          <a:xfrm>
            <a:off x="1066680" y="2222640"/>
            <a:ext cx="2719440" cy="53085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4292640" y="2374920"/>
            <a:ext cx="782316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Example of Matisse’s final body of works known as the cutouts after his poor condition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18" name=""/>
          <p:cNvSpPr/>
          <p:nvPr/>
        </p:nvSpPr>
        <p:spPr>
          <a:xfrm>
            <a:off x="1104840" y="7848720"/>
            <a:ext cx="679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Paper Collage on Canvas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45505"/>
                </a:solidFill>
                <a:latin typeface="American Typewriter"/>
              </a:rPr>
              <a:t>How Matisse’s Work Affected the Society?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20" name=""/>
          <p:cNvSpPr/>
          <p:nvPr/>
        </p:nvSpPr>
        <p:spPr>
          <a:xfrm>
            <a:off x="1300320" y="2895480"/>
            <a:ext cx="1040112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- Matisse showed the society many new ways of painting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- As the leader of the “Fauves” he changed many ways of how people thought about fauvism</a:t>
            </a:r>
            <a:endParaRPr b="0" lang="en-US" sz="4000" spc="-1" strike="noStrike">
              <a:solidFill>
                <a:srgbClr val="5f7bae"/>
              </a:solidFill>
              <a:latin typeface="Palatino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5800" y="5931000"/>
            <a:ext cx="2577960" cy="365580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3"/>
          <a:stretch/>
        </p:blipFill>
        <p:spPr>
          <a:xfrm>
            <a:off x="8686800" y="5765760"/>
            <a:ext cx="3328920" cy="398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